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6D3-89DE-40CB-A6DC-89A2FA4F8C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4A37-85D8-4D39-9C39-037C5F57AE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6766-BA84-4628-87F6-194B1C4D5F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0DCC-BED7-4E46-8E1C-F1E8598F5C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053D-F341-458D-8A5F-064C5300A1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AFF7-298F-483A-98FD-E6E6527E43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67BE-30C9-4078-A2AB-4A8BDAE366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66E-72D2-4130-99AA-B264552DBE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282-E2C7-4D1C-B702-FAA0073A93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4152-6A67-4274-9504-9CBF5B81D4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DA9-1FA7-4218-8688-5E2317563A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7095-3730-4F9B-8BB7-A364E59513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15A6-CCDD-481C-9783-FC64601286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D298-B081-4267-B6C1-DCE15161A5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691-52E4-4D2E-9815-D74BD70925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CE9-EF52-4AAB-A821-54285FB3B3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E63E-585A-47CC-9D30-420E5CBD8C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773-E375-49C8-A4A5-5B76811B17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666A-A086-4820-ACC1-15A8568B7B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E8D0-DFA5-4E60-A891-0BE6915A5B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F174-2AAF-469B-ACEC-FE21A1A934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060-3D31-47E2-92E2-97AF952C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4FD-FF17-42BE-AE37-BF94FD49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B68-F1C3-446B-BBD0-D323901F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0CB-EE2D-4464-AE4E-05AAC68D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34F-185F-4389-AF21-390B61CB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04B-A47E-42EC-800A-536F91CA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9CA-917B-42A0-88CD-8C6646E6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8FE-2A0D-4AB7-982D-324728A4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B14-6590-4801-AFC6-88717076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AD5-6BE4-4BC4-B45B-3322E00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FC6-D6C9-4F65-B2C9-80E7879D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22A-5637-4834-9B2F-4B82220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367-3755-4052-BEA7-49895328C13F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感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ǎnxi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고맙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电子邮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diànzǐyóujià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健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jiànkā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건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画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暑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ǔj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름방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庆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uóqìng Ji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경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进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n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향상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一路平安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yílùpíng'ā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가는 길이 평안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梦想成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mèngxiǎngchéngzhē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꿈이 실현되다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x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万事如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5786640"/>
            <a:ext cx="6264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wànshì rúyì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59920" y="521604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</a:rPr>
              <a:t>모든 일이 뜻대로 이루어지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h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ě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에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ēnghu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愉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ú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유쾌하다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즐겁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流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úl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창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1:20:06Z</dcterms:created>
  <dc:creator>System</dc:creator>
  <dc:description/>
  <dc:language>en-US</dc:language>
  <cp:lastModifiedBy>System</cp:lastModifiedBy>
  <dcterms:modified xsi:type="dcterms:W3CDTF">2014-01-27T02:01:24Z</dcterms:modified>
  <cp:revision>5</cp:revision>
  <dc:subject/>
  <dc:title>슬라이드 1</dc:title>
</cp:coreProperties>
</file>